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62ED-8615-4983-8745-FF40D8739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AC25-74BE-4DE2-8D9D-5341EFED7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AC8B-81DE-49F9-A034-F99FC5A66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2B23-3D95-4F55-A0BF-7506E0048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20DEA-604E-4FCA-95C7-47304C1BE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93193-9AAD-4BD0-9B7A-DA17CC41F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A03FC-C139-4B51-9E86-1A5EB620C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5A291-D41E-488D-A799-2C7D1D8B1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F29CC-76C4-4607-B242-F02AA7453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3436B-9AB1-4E9D-B166-579763240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C5FAD-0D93-4443-8E37-B0E2952CC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CDF8-5F31-4526-BBD0-985E2F409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43610-53C9-4580-80D1-7DAE984F0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8BB4E-221E-4FF0-AC5F-88D27B81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2A21D-C866-4F2E-A0AB-57E6ECF87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B3ABC-FD5C-475F-9A0D-442FA572E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61056-31DD-49BD-9EBF-D8EE2D1C2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FF328-B3CC-4D37-9DE0-F92751719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EEDAF-9A65-4596-9A2F-570C36C79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8128DE-05ED-41CF-B91B-FE9AD949C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AEDFF-DF8E-4E27-B20B-4A6A5B38F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4E4B2-654F-4BD7-B326-56CDE64AF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FB6A-CF7B-46CB-ADEE-3090AAA94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F5498D-7B1D-4350-8B27-1200E4AA1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5C9A4-B15F-4AEF-9590-63F15A28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21411-EC1B-4A6B-A13A-DF0CCA11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0C5FE-871E-4E8A-9A6A-B89F2746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1901D-7072-4010-B524-A2359E99E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3250D-C6F8-4D05-885E-8E9CFD311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F1526-010C-4D2A-9821-970914D66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FF53C-4038-4520-BC5F-F7BE1DF4C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C60BDE-28E6-49D5-AE40-C06196DED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ED6B1-3773-4A33-AB9E-E91F91296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F17D-965E-4BED-968F-4402B70FE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0CB2C4-810B-4C8D-9F09-883DB878F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FDF054-9748-4B44-91BA-D8DC65691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C4B312-72FE-4CBF-8C6E-7C5BD6656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F8F65-9EB9-4DC9-8E2C-115D82FFD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57E34-7621-4700-95A2-595B95FC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3435F-87F4-49E1-BA50-84DA61A7E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C453F6-3A79-49E6-A583-8C20D3F44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D8B5F-FFDC-49D3-AA35-7194ECA82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49F3B-40E8-4B91-B732-11B58B967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944D-C682-4E76-AFA5-4EC1F03A3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AEC1-3742-4A29-A63A-6A0F8B0C5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8EAB-0B18-42E4-84F8-95022F319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4511-FCC0-41D8-87BE-19A721D66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34A0-0AAC-4B3C-870F-2819DE51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7B8A0-E0F1-4E7F-B877-B64D5395A707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B5140-F699-48BC-81BD-60B3BB8A3EE1}" type="slidenum">
              <a:rPr b="0" lang="es-E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22768-A98C-4859-A3CC-441CC8DC1DC4}" type="slidenum">
              <a:rPr b="0" lang="es-E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81BB2-77E9-4DCC-BBF7-DCC9A1EFB382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Organization Chart 5"/>
          <p:cNvGrpSpPr/>
          <p:nvPr/>
        </p:nvGrpSpPr>
        <p:grpSpPr>
          <a:xfrm>
            <a:off x="1800360" y="620640"/>
            <a:ext cx="5471280" cy="4131000"/>
            <a:chOff x="1800360" y="620640"/>
            <a:chExt cx="5471280" cy="4131000"/>
          </a:xfrm>
        </p:grpSpPr>
        <p:cxnSp>
          <p:nvCxnSpPr>
            <p:cNvPr id="196" name="_s1028"/>
            <p:cNvCxnSpPr>
              <a:stCxn id="197" idx="0"/>
              <a:endCxn id="198" idx="2"/>
            </p:cNvCxnSpPr>
            <p:nvPr/>
          </p:nvCxnSpPr>
          <p:spPr>
            <a:xfrm flipV="1" rot="16200000">
              <a:off x="5080320" y="1728360"/>
              <a:ext cx="826560" cy="1915560"/>
            </a:xfrm>
            <a:prstGeom prst="bentConnector3">
              <a:avLst>
                <a:gd name="adj1" fmla="val 4997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9" name="_s1029"/>
            <p:cNvCxnSpPr>
              <a:stCxn id="200" idx="0"/>
              <a:endCxn id="198" idx="2"/>
            </p:cNvCxnSpPr>
            <p:nvPr/>
          </p:nvCxnSpPr>
          <p:spPr>
            <a:xfrm rot="16200000">
              <a:off x="4122720" y="2685960"/>
              <a:ext cx="826560" cy="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01" name="_s1030"/>
            <p:cNvCxnSpPr>
              <a:stCxn id="202" idx="0"/>
              <a:endCxn id="198" idx="2"/>
            </p:cNvCxnSpPr>
            <p:nvPr/>
          </p:nvCxnSpPr>
          <p:spPr>
            <a:xfrm flipH="1" flipV="1" rot="5400000">
              <a:off x="3164760" y="1728720"/>
              <a:ext cx="826560" cy="1915200"/>
            </a:xfrm>
            <a:prstGeom prst="bentConnector3">
              <a:avLst>
                <a:gd name="adj1" fmla="val 4997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8" name="_s1031"/>
            <p:cNvSpPr/>
            <p:nvPr/>
          </p:nvSpPr>
          <p:spPr>
            <a:xfrm>
              <a:off x="3715200" y="620640"/>
              <a:ext cx="1641240" cy="1652400"/>
            </a:xfrm>
            <a:custGeom>
              <a:avLst/>
              <a:gdLst>
                <a:gd name="textAreaLeft" fmla="*/ 79920 w 1641240"/>
                <a:gd name="textAreaRight" fmla="*/ 1561320 w 1641240"/>
                <a:gd name="textAreaTop" fmla="*/ 79920 h 1652400"/>
                <a:gd name="textAreaBottom" fmla="*/ 1572480 h 1652400"/>
              </a:gdLst>
              <a:ahLst/>
              <a:rect l="textAreaLeft" t="textAreaTop" r="textAreaRight" b="textAreaBottom"/>
              <a:pathLst>
                <a:path w="21600" h="21747">
                  <a:moveTo>
                    <a:pt x="3600" y="0"/>
                  </a:moveTo>
                  <a:arcTo wR="3600" hR="3600" stAng="16200000" swAng="-5400000"/>
                  <a:lnTo>
                    <a:pt x="0" y="18147"/>
                  </a:lnTo>
                  <a:arcTo wR="3600" hR="3600" stAng="10800000" swAng="-5400000"/>
                  <a:lnTo>
                    <a:pt x="18000" y="2174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90000"/>
                  </a:solidFill>
                  <a:latin typeface="comic"/>
                </a:rPr>
                <a:t>elecciones</a:t>
              </a:r>
              <a:br>
                <a:rPr sz="2400"/>
              </a:br>
              <a:r>
                <a:rPr b="0" lang="en-US" sz="2400" spc="-1" strike="noStrike">
                  <a:solidFill>
                    <a:srgbClr val="990000"/>
                  </a:solidFill>
                  <a:latin typeface="comic"/>
                </a:rPr>
                <a:t>del </a:t>
              </a:r>
              <a:br>
                <a:rPr sz="2400"/>
              </a:br>
              <a:r>
                <a:rPr b="0" lang="en-US" sz="2400" spc="-1" strike="noStrike">
                  <a:solidFill>
                    <a:srgbClr val="990000"/>
                  </a:solidFill>
                  <a:latin typeface="comic"/>
                </a:rPr>
                <a:t>200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_s1032"/>
            <p:cNvSpPr/>
            <p:nvPr/>
          </p:nvSpPr>
          <p:spPr>
            <a:xfrm>
              <a:off x="1800360" y="3099240"/>
              <a:ext cx="1641240" cy="1652400"/>
            </a:xfrm>
            <a:custGeom>
              <a:avLst/>
              <a:gdLst>
                <a:gd name="textAreaLeft" fmla="*/ 79920 w 1641240"/>
                <a:gd name="textAreaRight" fmla="*/ 1561320 w 1641240"/>
                <a:gd name="textAreaTop" fmla="*/ 79920 h 1652400"/>
                <a:gd name="textAreaBottom" fmla="*/ 1572480 h 1652400"/>
              </a:gdLst>
              <a:ahLst/>
              <a:rect l="textAreaLeft" t="textAreaTop" r="textAreaRight" b="textAreaBottom"/>
              <a:pathLst>
                <a:path w="21600" h="21747">
                  <a:moveTo>
                    <a:pt x="3600" y="0"/>
                  </a:moveTo>
                  <a:arcTo wR="3600" hR="3600" stAng="16200000" swAng="-5400000"/>
                  <a:lnTo>
                    <a:pt x="0" y="18147"/>
                  </a:lnTo>
                  <a:arcTo wR="3600" hR="3600" stAng="10800000" swAng="-5400000"/>
                  <a:lnTo>
                    <a:pt x="18000" y="2174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_s1033"/>
            <p:cNvSpPr/>
            <p:nvPr/>
          </p:nvSpPr>
          <p:spPr>
            <a:xfrm>
              <a:off x="3715200" y="3099240"/>
              <a:ext cx="1641240" cy="1652400"/>
            </a:xfrm>
            <a:custGeom>
              <a:avLst/>
              <a:gdLst>
                <a:gd name="textAreaLeft" fmla="*/ 79920 w 1641240"/>
                <a:gd name="textAreaRight" fmla="*/ 1561320 w 1641240"/>
                <a:gd name="textAreaTop" fmla="*/ 79920 h 1652400"/>
                <a:gd name="textAreaBottom" fmla="*/ 1572480 h 1652400"/>
              </a:gdLst>
              <a:ahLst/>
              <a:rect l="textAreaLeft" t="textAreaTop" r="textAreaRight" b="textAreaBottom"/>
              <a:pathLst>
                <a:path w="21600" h="21747">
                  <a:moveTo>
                    <a:pt x="3600" y="0"/>
                  </a:moveTo>
                  <a:arcTo wR="3600" hR="3600" stAng="16200000" swAng="-5400000"/>
                  <a:lnTo>
                    <a:pt x="0" y="18147"/>
                  </a:lnTo>
                  <a:arcTo wR="3600" hR="3600" stAng="10800000" swAng="-5400000"/>
                  <a:lnTo>
                    <a:pt x="18000" y="2174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_s1034"/>
            <p:cNvSpPr/>
            <p:nvPr/>
          </p:nvSpPr>
          <p:spPr>
            <a:xfrm>
              <a:off x="5630400" y="3099240"/>
              <a:ext cx="1641240" cy="1652400"/>
            </a:xfrm>
            <a:custGeom>
              <a:avLst/>
              <a:gdLst>
                <a:gd name="textAreaLeft" fmla="*/ 79920 w 1641240"/>
                <a:gd name="textAreaRight" fmla="*/ 1561320 w 1641240"/>
                <a:gd name="textAreaTop" fmla="*/ 79920 h 1652400"/>
                <a:gd name="textAreaBottom" fmla="*/ 1572480 h 1652400"/>
              </a:gdLst>
              <a:ahLst/>
              <a:rect l="textAreaLeft" t="textAreaTop" r="textAreaRight" b="textAreaBottom"/>
              <a:pathLst>
                <a:path w="21600" h="21747">
                  <a:moveTo>
                    <a:pt x="3600" y="0"/>
                  </a:moveTo>
                  <a:arcTo wR="3600" hR="3600" stAng="16200000" swAng="-5400000"/>
                  <a:lnTo>
                    <a:pt x="0" y="18147"/>
                  </a:lnTo>
                  <a:arcTo wR="3600" hR="3600" stAng="10800000" swAng="-5400000"/>
                  <a:lnTo>
                    <a:pt x="18000" y="2174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3" name="Picture 14" descr="hipolito mejia"/>
          <p:cNvPicPr/>
          <p:nvPr/>
        </p:nvPicPr>
        <p:blipFill>
          <a:blip r:embed="rId1"/>
          <a:stretch/>
        </p:blipFill>
        <p:spPr>
          <a:xfrm>
            <a:off x="1908000" y="3141720"/>
            <a:ext cx="1387800" cy="1584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6" descr="Danilo Medina"/>
          <p:cNvPicPr/>
          <p:nvPr/>
        </p:nvPicPr>
        <p:blipFill>
          <a:blip r:embed="rId2"/>
          <a:stretch/>
        </p:blipFill>
        <p:spPr>
          <a:xfrm>
            <a:off x="3786120" y="3143160"/>
            <a:ext cx="1500120" cy="1575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7" descr="joaquin balaguer"/>
          <p:cNvPicPr/>
          <p:nvPr/>
        </p:nvPicPr>
        <p:blipFill>
          <a:blip r:embed="rId3"/>
          <a:stretch/>
        </p:blipFill>
        <p:spPr>
          <a:xfrm>
            <a:off x="5786280" y="3143160"/>
            <a:ext cx="1347840" cy="151308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18"/>
          <p:cNvSpPr/>
          <p:nvPr/>
        </p:nvSpPr>
        <p:spPr>
          <a:xfrm>
            <a:off x="1546920" y="4786200"/>
            <a:ext cx="2224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0076a3"/>
                </a:solidFill>
                <a:uFillTx/>
                <a:latin typeface="Cambria Math"/>
                <a:ea typeface="Cambria Math"/>
              </a:rPr>
              <a:t>P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Cambria Math"/>
                <a:ea typeface="Cambria Math"/>
              </a:rPr>
              <a:t>1,432.548 voto</a:t>
            </a:r>
            <a:r>
              <a:rPr b="0" lang="es-ES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9"/>
          <p:cNvSpPr/>
          <p:nvPr/>
        </p:nvSpPr>
        <p:spPr>
          <a:xfrm>
            <a:off x="3587760" y="4857840"/>
            <a:ext cx="18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993366"/>
                </a:solidFill>
                <a:uFillTx/>
                <a:latin typeface="Cambria Math"/>
                <a:ea typeface="Cambria Math"/>
              </a:rPr>
              <a:t>PLD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785,526 vo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0"/>
          <p:cNvSpPr/>
          <p:nvPr/>
        </p:nvSpPr>
        <p:spPr>
          <a:xfrm>
            <a:off x="5516640" y="4857840"/>
            <a:ext cx="180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a50021"/>
                </a:solidFill>
                <a:uFillTx/>
                <a:latin typeface="Cambria Math"/>
                <a:ea typeface="Cambria Math"/>
              </a:rPr>
              <a:t>PRSC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Cambria Math"/>
                <a:ea typeface="Cambria Math"/>
              </a:rPr>
              <a:t>753,349 vo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1 Título" descr=""/>
          <p:cNvPicPr/>
          <p:nvPr/>
        </p:nvPicPr>
        <p:blipFill>
          <a:blip r:embed="rId1"/>
          <a:stretch/>
        </p:blipFill>
        <p:spPr>
          <a:xfrm>
            <a:off x="2200320" y="-6480"/>
            <a:ext cx="5121360" cy="154332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857160" y="1571400"/>
            <a:ext cx="7344000" cy="50720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nstantia"/>
              </a:rPr>
              <a:t>En conclusión vemos en este tema como Hipólito se enfocaba  mas en el termino de la SALUD y EDUCACION y olvidándose de que la economía estaba por el suelo donde habían personas que no tenían un techo donde vivir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nstantia"/>
              </a:rPr>
              <a:t>Y como al morir los principales representantes de los partidos del PRD,PLD Y PRSC provoco una gran crisis entre ellos internamente.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Rectangle 2" descr=""/>
          <p:cNvPicPr/>
          <p:nvPr/>
        </p:nvPicPr>
        <p:blipFill>
          <a:blip r:embed="rId1"/>
          <a:stretch/>
        </p:blipFill>
        <p:spPr>
          <a:xfrm>
            <a:off x="201600" y="1852560"/>
            <a:ext cx="8918640" cy="17319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571480" y="428400"/>
            <a:ext cx="7242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990000"/>
                </a:solidFill>
                <a:latin typeface="comic"/>
              </a:rPr>
              <a:t>Contenido</a:t>
            </a:r>
            <a:r>
              <a:rPr b="0" lang="es-ES" sz="5000" spc="-1" strike="noStrike">
                <a:solidFill>
                  <a:srgbClr val="04617b"/>
                </a:solidFill>
                <a:latin typeface="comic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1" name="Picture 5" descr="hipolito mejia"/>
          <p:cNvPicPr/>
          <p:nvPr/>
        </p:nvPicPr>
        <p:blipFill>
          <a:blip r:embed="rId1"/>
          <a:stretch/>
        </p:blipFill>
        <p:spPr>
          <a:xfrm>
            <a:off x="755640" y="476280"/>
            <a:ext cx="1800360" cy="16765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 txBox="1"/>
          <p:nvPr/>
        </p:nvSpPr>
        <p:spPr>
          <a:xfrm>
            <a:off x="250920" y="2420640"/>
            <a:ext cx="37432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mbria Math"/>
                <a:ea typeface="Cambria Math"/>
              </a:rPr>
              <a:t>Medidas económicas</a:t>
            </a:r>
            <a:r>
              <a:rPr b="0" lang="es-ES" sz="2600" spc="-1" strike="noStrike">
                <a:solidFill>
                  <a:srgbClr val="000000"/>
                </a:solidFill>
                <a:latin typeface="Cambria Math"/>
                <a:ea typeface="Cambria Math"/>
              </a:rPr>
              <a:t> y socia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mbria Math"/>
                <a:ea typeface="Cambria Math"/>
              </a:rPr>
              <a:t>Partes positivas y negativ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mbria Math"/>
                <a:ea typeface="Cambria Math"/>
              </a:rPr>
              <a:t>Nuevas secretari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mbria Math"/>
                <a:ea typeface="Cambria Math"/>
              </a:rPr>
              <a:t>Energía eléctrica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105520" y="25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mbria Math"/>
                <a:ea typeface="Cambria Math"/>
              </a:rPr>
              <a:t>Crisis bancaria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mbria Math"/>
                <a:ea typeface="Cambria Math"/>
              </a:rPr>
              <a:t>Protestas socia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mbria Math"/>
                <a:ea typeface="Cambria Math"/>
              </a:rPr>
              <a:t>La crisis de los partidos polític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ambria Math"/>
                <a:ea typeface="Cambria Math"/>
              </a:rPr>
              <a:t>Las elecciones del 2004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990000"/>
                </a:solidFill>
                <a:latin typeface="comic"/>
              </a:rPr>
              <a:t>Medidas económicas y sociales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El establecimiento de un anticipo de 1.5% sobre las venta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un impuesto selectivo a las bebidas y a los cigarrillo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El aumento del </a:t>
            </a:r>
            <a:r>
              <a:rPr b="0" lang="es-ES" sz="2800" spc="-1" strike="noStrike">
                <a:solidFill>
                  <a:srgbClr val="990000"/>
                </a:solidFill>
                <a:latin typeface="Constantia"/>
              </a:rPr>
              <a:t>ITBIS </a:t>
            </a: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de un 8 a un 12% y un 6% a la publicidad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Flotación de los combustibles en función del tipo de cambio y los precios internacionales del petróleo consignado en la ley de hidrocarburos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lnSpc>
                <a:spcPct val="8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Aumento periódico de la tarifa eléctrica consignado en la ley general de electricidad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500" spc="-1" strike="noStrike">
                <a:solidFill>
                  <a:srgbClr val="990000"/>
                </a:solidFill>
                <a:latin typeface="comic"/>
              </a:rPr>
              <a:t>Partes positivas y negativas</a:t>
            </a:r>
            <a:r>
              <a:rPr b="0" lang="es-ES" sz="4500" spc="-1" strike="noStrike">
                <a:solidFill>
                  <a:srgbClr val="04617b"/>
                </a:solidFill>
                <a:latin typeface="comic"/>
              </a:rPr>
              <a:t>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79280" y="1785960"/>
            <a:ext cx="868680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0000"/>
                </a:solidFill>
                <a:latin typeface="Constantia"/>
              </a:rPr>
              <a:t>Parte negativa: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los efectos de estas medidas fueron muy fuertes, pues  muchas empresas quebraron y la calidad de vida de la población se deterioro a niveles alarmante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3440" indent="-253440">
              <a:lnSpc>
                <a:spcPct val="9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0000"/>
                </a:solidFill>
                <a:latin typeface="Constantia"/>
              </a:rPr>
              <a:t>Parte positiva: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Constantia"/>
              </a:rPr>
              <a:t>para compensar esa situación el gobierno aplicó  un paquete social que contenía los siguientes elementos; en  el sector educativo amplio las raciones del desayuno escolar, mientras  que en el sector de salud se vacunaron a millones de personas, generación  de empleos, entre  otras cosas.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990000"/>
                </a:solidFill>
                <a:latin typeface="comic"/>
              </a:rPr>
              <a:t>Nuevas secretarías</a:t>
            </a:r>
            <a:r>
              <a:rPr b="0" lang="es-ES" sz="5000" spc="-1" strike="noStrike">
                <a:solidFill>
                  <a:srgbClr val="04617b"/>
                </a:solidFill>
                <a:latin typeface="comic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Fueron creadas las secretarías de medio ambiente y recursos naturales, responsables de coordinar las políticas de protección al medio ambiente y los recursos naturales.Igualmente, la secretaria de cultura para conducir la política cultural del país y la secretaría de la juventud para conducir programas y políticas dirigidos hacia la juventud.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trips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990000"/>
                </a:solidFill>
                <a:latin typeface="comic"/>
              </a:rPr>
              <a:t>Energía eléctrica</a:t>
            </a:r>
            <a:r>
              <a:rPr b="0" lang="es-ES" sz="5000" spc="-1" strike="noStrike">
                <a:solidFill>
                  <a:srgbClr val="04617b"/>
                </a:solidFill>
                <a:latin typeface="comic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500040" y="2104560"/>
            <a:ext cx="83520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El déficit de energía se mantuvo, por  lo que la ciudadanía continuo sufriendo los apagones electricos.No obstante, el  gobierno periódicamente afirmaba que pagaba grandes sumas de dinero a las empresas generadoras de energía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403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000" spc="-1" strike="noStrike">
                <a:solidFill>
                  <a:srgbClr val="990000"/>
                </a:solidFill>
                <a:latin typeface="comic"/>
              </a:rPr>
              <a:t>Crisis bancaria</a:t>
            </a:r>
            <a:r>
              <a:rPr b="0" lang="es-ES" sz="5000" spc="-1" strike="noStrike">
                <a:solidFill>
                  <a:srgbClr val="04617b"/>
                </a:solidFill>
                <a:latin typeface="comic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En el 2003 la República Dominicana fue afectada por la crisis de tres bancos: el banco intercontinental (BANINTER) que cometió un fraude de decenas de miles de millones de pesos. La suma pagada por la autoridades para salvar los ahorros de los ciudadanos sumo RD$55,000 millones, igual a las dos terceras del presupuesto nacional de ese momento.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Constantia"/>
              </a:rPr>
              <a:t>No bien se recuperaba la población del asombro y la angustia que despertó el caso BANINTER, cuando se supo de otro gran fraude, en el banco banco nacional  de crédito(BANCREDITO), que ha tenido costo superior a los RD$23,000 millon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plit dir="in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990000"/>
                </a:solidFill>
                <a:latin typeface="comic"/>
              </a:rPr>
              <a:t>La crisis de los partidos políticos</a:t>
            </a:r>
            <a:r>
              <a:rPr b="0" lang="es-ES" sz="3600" spc="-1" strike="noStrike">
                <a:solidFill>
                  <a:srgbClr val="04617b"/>
                </a:solidFill>
                <a:latin typeface="comic"/>
              </a:rPr>
              <a:t> 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Constantia"/>
              </a:rPr>
              <a:t>Con la muerte de José francisco peña Gómez, Joaquín Balaguer y Juan Bosch, los tres partidos tradicionales perdieron a sus lideres históricos, los cuales servían de agentes mediadores frente a los conflictos que de manera reiterada se presentaban en sus respectiva instituciones partidaria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7T17:48:57Z</dcterms:created>
  <dc:creator>yuliber estefany</dc:creator>
  <dc:description/>
  <dc:language>en-US</dc:language>
  <cp:lastModifiedBy>Estudiantes</cp:lastModifiedBy>
  <dcterms:modified xsi:type="dcterms:W3CDTF">2010-12-08T15:36:27Z</dcterms:modified>
  <cp:revision>6</cp:revision>
  <dc:subject/>
  <dc:title>Hipólito mejìa presidente (2000)</dc:title>
</cp:coreProperties>
</file>